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0.jpeg" ContentType="image/jpeg"/>
  <Override PartName="/ppt/media/image7.pct" ContentType="image/x-pict"/>
  <Override PartName="/ppt/media/image5.pct" ContentType="image/x-pict"/>
  <Override PartName="/ppt/media/image2.jpeg" ContentType="image/jpe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71720" y="685440"/>
            <a:ext cx="471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ABE-2599-4A6D-B54F-B6DE187A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34DB-0B8D-4721-B8CF-494C737E1C6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86E-394E-49F3-B738-7760D7FBBA3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C033-3766-4DA9-8019-7E3B47A7EF0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2D5-DAF8-4174-97F9-D95E718F447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5F10-2108-400D-BE4F-92DFA2CC028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3DA-BFB3-4EE1-9D1E-2526FD73DFA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C8C-B860-4960-AD59-CBC9D8DFB03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59F-0CB3-404C-918B-20674DFE61F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61A-AE8D-4A86-8765-53A7020E427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BB5E-B20D-45A6-A169-598AFF87EFB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507-E326-4B7A-8C75-5D9C9CB86AF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E48-19C6-4827-8E0C-AEF86C1924F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E65-5524-40B0-9D59-124BE0FBC7D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828-E0C6-4AD2-92BA-0E2ABAA4FAA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6E2-027C-463F-8613-4D4FFAE7D47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2A3-6C0C-4762-A0AD-9C176265B95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52E8-499A-4783-BE5B-93D16ED3812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398D-8A72-43F1-A2E8-FCE8ED37A05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8EFB-198D-4517-BEA8-94F89B5C700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949-AB71-4939-99EF-ACA03929473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71A2-7E1C-441F-B85E-3F223AD8FC6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03FA-4132-41A8-A5C0-652A7BA091D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71720" y="685800"/>
            <a:ext cx="471456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41A-8E9F-40BF-9E2F-210F3965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9F5-8F57-42CC-B6DF-E3F067B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560-AB69-466E-9358-68BE3F9A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B18-9422-4E48-908B-CA38A486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944-1723-4D26-BED8-7F0E4DCD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72D-F559-42A0-84EB-2A25F84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604-F4CC-4B4B-B1EE-5CDDF69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8096-D35A-4017-B579-D5AE345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6DBB-BAE6-45D2-9948-9C607CD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4200" y="568080"/>
            <a:ext cx="855000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EE3-9D3B-4DB8-A07B-36FC0F14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5074-C073-41F1-905E-7E62518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096-7E3F-4284-A29B-6B8225A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F97-6DAD-43F0-911F-29DAA91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B8B-ABB0-4C16-B0EA-FCC264D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CEAC-6EE0-4FC9-A1E0-9B4FBF86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24B-308C-4DD0-B1B8-9092777C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50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3616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42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50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3616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3422-466E-42C8-AF77-EF333276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5DA-B5D2-465A-B269-0E53E5D6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95C-D717-43A4-AF90-AFF9159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04D-549A-46DF-BEFE-CFB4DF2A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4200" y="568080"/>
            <a:ext cx="855000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46D-0DB3-4747-ABEA-30B1C3F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C4E-805D-4024-B623-6D6158B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461-247D-4353-89F6-9132985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577-ED02-4282-8803-DA521E8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10059840" cy="731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66840" y="1787400"/>
            <a:ext cx="7365960" cy="1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1" marL="781920" indent="-30024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2" marL="1203840" indent="-24156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3" marL="1684440" indent="-24012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4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5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6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4200" y="6546600"/>
            <a:ext cx="209520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36920" y="6546600"/>
            <a:ext cx="318456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09000" y="6546600"/>
            <a:ext cx="2095200" cy="48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242-82D1-4F66-9720-FB96583E7BE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10059840" cy="731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346480" y="3332160"/>
            <a:ext cx="6005520" cy="14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1" marL="781920" indent="-30024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2" marL="1203840" indent="-241560">
              <a:spcBef>
                <a:spcPts val="876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3" marL="1684440" indent="-240120">
              <a:spcBef>
                <a:spcPts val="876"/>
              </a:spcBef>
              <a:buClr>
                <a:srgbClr val="212164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4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5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lvl="6" marL="2166120" indent="-239760">
              <a:spcBef>
                <a:spcPts val="876"/>
              </a:spcBef>
              <a:buClr>
                <a:srgbClr val="212164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67616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022280" y="6664320"/>
            <a:ext cx="31863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45920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9C45-21E9-4300-9686-48BEB99A0EDF}" type="slidenum">
              <a:rPr b="0" lang="en-US" sz="15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1869840"/>
            <a:ext cx="7878600" cy="1461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5d2204"/>
                </a:solidFill>
                <a:latin typeface="Arial"/>
              </a:rPr>
              <a:t>Iris and Walter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160" y="3576600"/>
            <a:ext cx="7878600" cy="1868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5d2204"/>
                </a:solidFill>
                <a:latin typeface="Arial"/>
              </a:rPr>
              <a:t>Vocabulary</a:t>
            </a: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meadow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iece of grassy land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meadow is a great place to picnic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113440" y="2955960"/>
            <a:ext cx="4190760" cy="27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amazing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Wonderful or surprising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is surfer is doing an amazing job!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113440" y="2963880"/>
            <a:ext cx="419076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scribes the countr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y aunt lives on a farm in a rural part of the stat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5479920" y="2112840"/>
            <a:ext cx="34578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scribes a city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re is a lot of traffic with cars, trucks, and buses in an urban plac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5113440" y="2952720"/>
            <a:ext cx="4190760" cy="270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Oral Vocabulary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brittle</a:t>
            </a: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creature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art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decision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70160" y="2112480"/>
            <a:ext cx="508788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nvestigate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underground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1308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reatur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brittl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dar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decisio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investigat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country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community of farms, usually less buildings and people than a cit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country has lots of open spac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196120" y="3952800"/>
            <a:ext cx="200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113440" y="2784600"/>
            <a:ext cx="4190760" cy="304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ura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nderground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urban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754200" y="2112840"/>
            <a:ext cx="85500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Very pretty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picture shows a beautiful scen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113440" y="2949480"/>
            <a:ext cx="41907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front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opposite of back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jective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 can see the front of your shirt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lace where you stand with others behind you.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adverb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Please get at the front of the line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 flipH="1">
            <a:off x="4951440" y="2031840"/>
            <a:ext cx="417816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someon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erson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rs. Story is someone important at our school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113440" y="2416320"/>
            <a:ext cx="419076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somewher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lace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We will go somewhere special for lunch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113440" y="2313000"/>
            <a:ext cx="4190760" cy="398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friend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pal, someone you like to play with 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y friend and I will go to the playground together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113440" y="296064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Roller-skate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o move on roller skate, which are skates with wheels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verb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 like to roller-skate in my driveway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179800" y="3495600"/>
            <a:ext cx="586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8" descr="rollerskate_l"/>
          <p:cNvPicPr/>
          <p:nvPr/>
        </p:nvPicPr>
        <p:blipFill>
          <a:blip r:embed="rId1"/>
          <a:stretch/>
        </p:blipFill>
        <p:spPr>
          <a:xfrm>
            <a:off x="5113440" y="2193840"/>
            <a:ext cx="419076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200" y="568080"/>
            <a:ext cx="8550000" cy="1382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Arial"/>
              </a:rPr>
              <a:t>ladder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3840" y="2112480"/>
            <a:ext cx="419076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A set of steps with two side pieces and rungs for climbing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-nou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72960" indent="-37296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The firemen are using a ladder to climb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72960" indent="0">
              <a:spcBef>
                <a:spcPts val="75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113440" y="2949480"/>
            <a:ext cx="41907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2:06:12Z</dcterms:created>
  <dc:creator>CMCSS CMCSS</dc:creator>
  <dc:description/>
  <dc:language>en-US</dc:language>
  <cp:lastModifiedBy>Laura McDow</cp:lastModifiedBy>
  <dcterms:modified xsi:type="dcterms:W3CDTF">2010-07-29T11:18:47Z</dcterms:modified>
  <cp:revision>20</cp:revision>
  <dc:subject/>
  <dc:title>Iris and Walter</dc:title>
</cp:coreProperties>
</file>